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0.wmf" ContentType="image/x-wmf"/>
  <Override PartName="/ppt/media/image5.jpeg" ContentType="image/jpeg"/>
  <Override PartName="/ppt/media/image18.wmf" ContentType="image/x-wmf"/>
  <Override PartName="/ppt/media/image29.png" ContentType="image/png"/>
  <Override PartName="/ppt/media/image14.wmf" ContentType="image/x-wmf"/>
  <Override PartName="/ppt/media/image6.png" ContentType="image/png"/>
  <Override PartName="/ppt/media/image9.wmf" ContentType="image/x-wmf"/>
  <Override PartName="/ppt/media/image10.jpeg" ContentType="image/jpeg"/>
  <Override PartName="/ppt/media/image30.png" ContentType="image/png"/>
  <Override PartName="/ppt/media/image7.wmf" ContentType="image/x-wmf"/>
  <Override PartName="/ppt/media/image11.jpeg" ContentType="image/jpeg"/>
  <Override PartName="/ppt/media/image8.wmf" ContentType="image/x-wmf"/>
  <Override PartName="/ppt/media/image31.jpeg" ContentType="image/jpeg"/>
  <Override PartName="/ppt/media/image2.png" ContentType="image/png"/>
  <Override PartName="/ppt/media/image25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4.wmf" ContentType="image/x-wmf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1A4E-713B-4589-A428-21B8DF6BE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812B-817F-4C38-9823-AC1B67E05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62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D90D-479B-48E5-A17F-ADA984F0D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A087-D329-480D-858E-00D653BC6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2B7B-8E27-44D6-8C1D-A22A981CD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A90A-4F9D-488A-91CC-1899777C8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ABB9-B6DF-44D1-B1DF-130127298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E5CB-B067-4308-AF48-E745F8939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62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B5F9-6476-4613-8010-DF40DCFD1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768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B610-3220-42E1-9E1A-145175EB9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62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ED13-85E3-4B40-A69C-6D8E0BEA4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62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C3EE-CCAC-45D9-A993-4156FCDE1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62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0842-DE60-4959-9A10-14DC0FB6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AFC-54AB-4542-AB5F-E5AC9604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75BB-2B67-4331-8ADA-8868A951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FF56-B85A-4509-859D-CD7D844D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A68A-F44F-4574-B326-D20466D7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5A0C-76B6-45C1-B9E6-F5F7B60C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364A-5419-4FF9-A885-BE27CB6F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C313-ABF0-4FD5-88E1-2A2D2E6A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8705-F2F1-4320-806D-72810751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1AE4-C116-4C30-9D40-A1C979BC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DDA3-C766-4DAB-AC11-44B1D8AC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7AD-26CC-4935-AC71-DA337C72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A7222B84-9C14-4A07-BD36-C3AD0F5FDBE1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ABRIC WP1.2 Broadband Data Path:</a:t>
            </a:r>
            <a:br>
              <a:rPr sz="36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tocols and Processor Interfac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onn 20/09/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alph Spe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University of Manch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62000" cy="2019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92160" y="4713120"/>
            <a:ext cx="296892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6880" y="4718160"/>
            <a:ext cx="257472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54600" y="2835360"/>
            <a:ext cx="0" cy="190800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0080" y="2838600"/>
            <a:ext cx="0" cy="19080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5160960"/>
            <a:ext cx="17622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41960" y="2174760"/>
            <a:ext cx="17607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40320" y="2390760"/>
            <a:ext cx="17622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0040" y="0"/>
            <a:ext cx="8496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Times New Roman"/>
              </a:rPr>
              <a:t>Photos at The P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9112" t="0" r="14088" b="0"/>
          <a:stretch/>
        </p:blipFill>
        <p:spPr>
          <a:xfrm>
            <a:off x="2405160" y="3281400"/>
            <a:ext cx="2938320" cy="3110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15672" t="26608" r="15723" b="7618"/>
          <a:stretch/>
        </p:blipFill>
        <p:spPr>
          <a:xfrm>
            <a:off x="7091280" y="1044720"/>
            <a:ext cx="1968480" cy="2727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10669" t="9987" r="10157" b="0"/>
          <a:stretch/>
        </p:blipFill>
        <p:spPr>
          <a:xfrm>
            <a:off x="1084320" y="652320"/>
            <a:ext cx="2212920" cy="3133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rcRect l="12209" t="8768" r="20838" b="23546"/>
          <a:stretch/>
        </p:blipFill>
        <p:spPr>
          <a:xfrm>
            <a:off x="4206960" y="650880"/>
            <a:ext cx="2158920" cy="3152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00120" y="2592360"/>
            <a:ext cx="1463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17520" indent="-317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 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16160" y="673200"/>
            <a:ext cx="2313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17520" indent="-317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st-bed S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31040" y="738360"/>
            <a:ext cx="2570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17520" indent="-317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duction S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65280" y="6032520"/>
            <a:ext cx="2786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17520" indent="-317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ptical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760" y="4905360"/>
            <a:ext cx="2024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17520" indent="-317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duction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0348-163E-4F75-B459-E49E077BD2DC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127400" y="3409920"/>
            <a:ext cx="5016600" cy="1540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24160" y="793800"/>
            <a:ext cx="5023080" cy="2736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77612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Times New Roman"/>
              </a:rPr>
              <a:t>4 Gbps on G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Arial"/>
              </a:rPr>
              <a:t>ÉANT</a:t>
            </a:r>
            <a:r>
              <a:rPr b="1" lang="en-GB" sz="3200" spc="-1" strike="noStrike">
                <a:solidFill>
                  <a:srgbClr val="800080"/>
                </a:solidFill>
                <a:latin typeface="Times New Roman"/>
              </a:rPr>
              <a:t>:  UDP Throughput 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9600" y="896400"/>
            <a:ext cx="372096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Kernel </a:t>
            </a:r>
            <a:r>
              <a:rPr b="0" lang="en-GB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2.6.20-web100_pktd-p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Myricom 10G-PCIE-8A-R Fibr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x-usecs=25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Coalescence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TU 9000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x throughput </a:t>
            </a: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4.199 G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Sending host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3 CPUs  i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&lt;8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µ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ackets, 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 CPU is &gt;90% in kernel mod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 ~10% soft 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Receiving hos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CPUs  i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&lt;8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µ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ackets, 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 CPU is ~37% in kernel mod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 ~9% soft 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129200" y="4840200"/>
            <a:ext cx="5014800" cy="154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A773-D932-42AD-AB51-838EFD17EC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3480" y="0"/>
            <a:ext cx="69138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Times New Roman"/>
              </a:rPr>
              <a:t>4 Gig Flows on G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Arial"/>
              </a:rPr>
              <a:t>ÉANT</a:t>
            </a:r>
            <a:r>
              <a:rPr b="1" lang="en-GB" sz="3200" spc="-1" strike="noStrike">
                <a:solidFill>
                  <a:srgbClr val="800080"/>
                </a:solidFill>
                <a:latin typeface="Times New Roman"/>
              </a:rPr>
              <a:t>: 1-way delay 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9240" y="682200"/>
            <a:ext cx="3787560" cy="24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Kernel </a:t>
            </a: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2.6.20-web100_pktd-p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Myricom 10G-PCIE-8A-R Fibr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alescence 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1-way delay stable at 23.435 </a:t>
            </a: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Arial"/>
              </a:rPr>
              <a:t>µ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Peak separation 86 </a:t>
            </a: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Arial"/>
              </a:rPr>
              <a:t>µ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Arial"/>
              </a:rPr>
              <a:t>~40 µs extra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21040" y="704880"/>
            <a:ext cx="5058000" cy="2789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023920" y="2793960"/>
            <a:ext cx="1687680" cy="181296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311040" y="3459240"/>
            <a:ext cx="8562600" cy="2797200"/>
            <a:chOff x="311040" y="3459240"/>
            <a:chExt cx="8562600" cy="2797200"/>
          </a:xfrm>
        </p:grpSpPr>
        <p:sp>
          <p:nvSpPr>
            <p:cNvPr id="141" name=""/>
            <p:cNvSpPr/>
            <p:nvPr/>
          </p:nvSpPr>
          <p:spPr>
            <a:xfrm>
              <a:off x="311040" y="4670280"/>
              <a:ext cx="3576600" cy="14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25360" indent="-225360">
                <a:lnSpc>
                  <a:spcPct val="100000"/>
                </a:lnSpc>
                <a:buClr>
                  <a:srgbClr val="cc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0000"/>
                  </a:solidFill>
                  <a:latin typeface="Times New Roman"/>
                </a:rPr>
                <a:t>Lab Tests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100000"/>
                </a:lnSpc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Peak separation 86 </a:t>
              </a:r>
              <a:r>
                <a:rPr b="1" lang="en-US" sz="1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µ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100000"/>
                </a:lnSpc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~40 µs extra del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100000"/>
                </a:lnSpc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100000"/>
                </a:lnSpc>
                <a:buClr>
                  <a:srgbClr val="cc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0000"/>
                  </a:solidFill>
                  <a:latin typeface="Times New Roman"/>
                </a:rPr>
                <a:t>Lightpath adds no unwanted eff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100000"/>
                </a:lnSpc>
                <a:buClr>
                  <a:srgbClr val="cc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3"/>
            <a:stretch/>
          </p:blipFill>
          <p:spPr>
            <a:xfrm>
              <a:off x="3824280" y="3459240"/>
              <a:ext cx="5049360" cy="279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64AD-1A81-4C99-A980-E1633CA3CD5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44640" y="0"/>
            <a:ext cx="69134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Times New Roman"/>
              </a:rPr>
              <a:t>4 Gig Flows on G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Arial"/>
              </a:rPr>
              <a:t>ÉANT</a:t>
            </a:r>
            <a:r>
              <a:rPr b="1" lang="en-GB" sz="3200" spc="-1" strike="noStrike">
                <a:solidFill>
                  <a:srgbClr val="800080"/>
                </a:solidFill>
                <a:latin typeface="Times New Roman"/>
              </a:rPr>
              <a:t>: Jitter hist 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9600" y="682560"/>
            <a:ext cx="3720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Kernel </a:t>
            </a: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2.6.20-web100_pktd-p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Myricom 10G-PCIE-8A-R Fibr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alescence 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Peak separation ~36 </a:t>
            </a: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Arial"/>
              </a:rPr>
              <a:t>µ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Arial"/>
              </a:rPr>
              <a:t>Factor 100 sma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36520" y="2212920"/>
            <a:ext cx="8735760" cy="2071800"/>
            <a:chOff x="236520" y="2212920"/>
            <a:chExt cx="8735760" cy="207180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236520" y="2516040"/>
              <a:ext cx="4367880" cy="176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4596840" y="2516040"/>
              <a:ext cx="437544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177520" y="2212920"/>
              <a:ext cx="372132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25360" indent="-225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Packet separation 300 </a:t>
              </a:r>
              <a:r>
                <a:rPr b="1" lang="en-US" sz="1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µ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7320" y="2214360"/>
              <a:ext cx="372168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25360" indent="-225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Packet separation 100 </a:t>
              </a:r>
              <a:r>
                <a:rPr b="1" lang="en-US" sz="1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µ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62080" y="4299120"/>
            <a:ext cx="8710200" cy="2071080"/>
            <a:chOff x="262080" y="4299120"/>
            <a:chExt cx="8710200" cy="207108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262080" y="4602240"/>
              <a:ext cx="4368240" cy="176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4"/>
            <a:stretch/>
          </p:blipFill>
          <p:spPr>
            <a:xfrm>
              <a:off x="4596480" y="4602240"/>
              <a:ext cx="4375800" cy="176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85160" y="4299120"/>
              <a:ext cx="372168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25360" indent="-225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0000"/>
                  </a:solidFill>
                  <a:latin typeface="Times New Roman"/>
                </a:rPr>
                <a:t>Lab Tests: Lightpath adds no eff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4B77-47BF-41CE-8F0B-9464AC0A4AA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9246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Times New Roman"/>
              </a:rPr>
              <a:t>4 Gig Flows on G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Arial"/>
              </a:rPr>
              <a:t>ÉANT</a:t>
            </a:r>
            <a:r>
              <a:rPr b="1" lang="en-GB" sz="3200" spc="-1" strike="noStrike">
                <a:solidFill>
                  <a:srgbClr val="800080"/>
                </a:solidFill>
                <a:latin typeface="Times New Roman"/>
              </a:rPr>
              <a:t>: UDP Flow Stability 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9240" y="1282320"/>
            <a:ext cx="3497400" cy="50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Kernel </a:t>
            </a:r>
            <a:r>
              <a:rPr b="0" lang="en-GB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2.6.20-web100_pktd-p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Myricom 10G-PCIE-8A-R Fibr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alescence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TU 9000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acket spacing 18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ials send 10 M pac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99"/>
                </a:solidFill>
                <a:latin typeface="Times New Roman"/>
              </a:rPr>
              <a:t>Ran for 26 H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Throughput very stable</a:t>
            </a:r>
            <a:br>
              <a:rPr sz="1600"/>
            </a:b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3.9795 G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Occasional trials have packet loss ~40 in 10M - investig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759120" y="1274760"/>
            <a:ext cx="5207040" cy="2970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568680" y="4641840"/>
            <a:ext cx="539604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Our thanks go to all our collabo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DANTE really provided “Bandwidth on Deman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A record 6 hours !  includ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Driving to the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Installing the P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Provisioning the Light-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88DD-6291-4307-AE6B-32DA031360F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11200" y="819000"/>
            <a:ext cx="819792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lassic Bottlen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10 Gbit/s input 4 Gbit/s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Use udpmon to send a stream of spaced UDP pac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Measure packet number of first lost frame as function of w packet spacing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017720" y="4192560"/>
            <a:ext cx="3809880" cy="2138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095800" y="4179960"/>
            <a:ext cx="3818160" cy="2144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073240" y="0"/>
            <a:ext cx="6308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Times New Roman"/>
              </a:rPr>
              <a:t>Alcatel Buffer size: Metho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604880" y="2571840"/>
                <a:ext cx="51818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len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1lost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w*R</m:t>
                    </m:r>
                    <m:r>
                      <m:rPr>
                        <m:lit/>
                        <m:nor/>
                      </m:rPr>
                      <m:t xml:space="preserve">ou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041480" y="3360600"/>
                <a:ext cx="67593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los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/Q</m:t>
                    </m:r>
                    <m:r>
                      <m:rPr>
                        <m:lit/>
                        <m:nor/>
                      </m:rPr>
                      <m:t xml:space="preserve">le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w*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out</m:t>
                    </m:r>
                    <m:r>
                      <m:rPr>
                        <m:lit/>
                        <m:nor/>
                      </m:rPr>
                      <m:t xml:space="preserve">/Q</m:t>
                    </m:r>
                    <m:r>
                      <m:rPr>
                        <m:lit/>
                        <m:nor/>
                      </m:rPr>
                      <m:t xml:space="preserve">le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105520" y="878040"/>
            <a:ext cx="3789360" cy="50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Slope gives buffer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~57 k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D528-418A-4E5A-8CB1-7DACC95BC5C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WP1.2.2 Processor Interfa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versity of Berkeley iBOB design (Dan Wertheim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 tested iBOBs delivered to JBO in June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mware being developed -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ona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ority: 10 GE data transfer through CX4 conn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BOB connects via VSI-H to EVLA/e-MERLIN station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totype station board tested at Penticton- new version will be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of SBs to JBO expected after end of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inge tests will need correlator cards – some time in 2008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69AB-B868-4C43-B9BD-3C138805BBD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Connection to e-MERLI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" y="838080"/>
            <a:ext cx="8572680" cy="5487840"/>
            <a:chOff x="228600" y="838080"/>
            <a:chExt cx="8572680" cy="5487840"/>
          </a:xfrm>
        </p:grpSpPr>
        <p:sp>
          <p:nvSpPr>
            <p:cNvPr id="169" name=""/>
            <p:cNvSpPr/>
            <p:nvPr/>
          </p:nvSpPr>
          <p:spPr>
            <a:xfrm>
              <a:off x="5257800" y="5182200"/>
              <a:ext cx="7999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nsa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86200" y="5182200"/>
              <a:ext cx="7999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JB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86400" y="4496400"/>
              <a:ext cx="799920" cy="34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JB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72480" y="4496400"/>
              <a:ext cx="799920" cy="34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J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4839480"/>
              <a:ext cx="1714320" cy="68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MERLIN CORRELA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29480" y="5525280"/>
              <a:ext cx="799920" cy="22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X4 4Gb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29480" y="5753520"/>
              <a:ext cx="799920" cy="45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r fibre if &gt; 15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86280" y="5525280"/>
              <a:ext cx="799920" cy="22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X4 4Gb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2720" y="1866960"/>
              <a:ext cx="571320" cy="34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86120" y="1066680"/>
              <a:ext cx="799920" cy="22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X4 1Gb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6200" y="952560"/>
              <a:ext cx="799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BOB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86400" y="952560"/>
              <a:ext cx="571320" cy="354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witc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57480" y="952560"/>
              <a:ext cx="13712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tation Board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2720" y="952560"/>
              <a:ext cx="571320" cy="34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57200" y="838440"/>
              <a:ext cx="34272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685440" y="838440"/>
              <a:ext cx="114120" cy="34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85440" y="838440"/>
              <a:ext cx="11412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71520" y="952560"/>
              <a:ext cx="457200" cy="34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71520" y="1296360"/>
              <a:ext cx="457200" cy="34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00400" y="952560"/>
              <a:ext cx="685800" cy="34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 to ZDO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00400" y="1296360"/>
              <a:ext cx="685800" cy="34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 to ZDO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72480" y="952560"/>
              <a:ext cx="685440" cy="354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witc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28720" y="1066680"/>
              <a:ext cx="571320" cy="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28720" y="1409760"/>
              <a:ext cx="571320" cy="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5800" y="1409760"/>
              <a:ext cx="571320" cy="3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86120" y="1981080"/>
              <a:ext cx="799920" cy="22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X4 1Gb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86200" y="1866240"/>
              <a:ext cx="799920" cy="68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BOB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57480" y="1866240"/>
              <a:ext cx="13712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tation Board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57200" y="1752120"/>
              <a:ext cx="34272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685440" y="1752120"/>
              <a:ext cx="1141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685440" y="1752120"/>
              <a:ext cx="11412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71520" y="1866240"/>
              <a:ext cx="457200" cy="34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71520" y="2210040"/>
              <a:ext cx="45720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00400" y="1866240"/>
              <a:ext cx="685800" cy="34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 to ZDO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00400" y="2210040"/>
              <a:ext cx="6858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 to ZDO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28720" y="1981080"/>
              <a:ext cx="571320" cy="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28720" y="2324160"/>
              <a:ext cx="571320" cy="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5800" y="2324160"/>
              <a:ext cx="571320" cy="3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2720" y="3696840"/>
              <a:ext cx="57132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86120" y="2896560"/>
              <a:ext cx="799920" cy="22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X4 1Gb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86200" y="2782080"/>
              <a:ext cx="799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BOB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57480" y="2782080"/>
              <a:ext cx="13712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tation Board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2720" y="2782080"/>
              <a:ext cx="571320" cy="34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57200" y="2667600"/>
              <a:ext cx="34272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85440" y="2667960"/>
              <a:ext cx="114120" cy="34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85440" y="2667960"/>
              <a:ext cx="11412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71520" y="2782080"/>
              <a:ext cx="457200" cy="34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71520" y="3125520"/>
              <a:ext cx="45720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00400" y="2782080"/>
              <a:ext cx="685800" cy="34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 to ZDO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00400" y="3125520"/>
              <a:ext cx="68580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 to ZDO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28720" y="2896560"/>
              <a:ext cx="571320" cy="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28720" y="3239640"/>
              <a:ext cx="571320" cy="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5800" y="3239640"/>
              <a:ext cx="571320" cy="3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86120" y="3810240"/>
              <a:ext cx="799920" cy="22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X4 1Gb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86200" y="3696120"/>
              <a:ext cx="799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BOB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57480" y="3696120"/>
              <a:ext cx="13712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tation Board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57200" y="3582000"/>
              <a:ext cx="3427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685440" y="3582000"/>
              <a:ext cx="11412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85440" y="3582000"/>
              <a:ext cx="1141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71520" y="3696120"/>
              <a:ext cx="457200" cy="34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71520" y="4039920"/>
              <a:ext cx="45720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00400" y="3696120"/>
              <a:ext cx="685800" cy="34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 to ZDO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00400" y="4039920"/>
              <a:ext cx="68580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 to ZDO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28720" y="3810240"/>
              <a:ext cx="571320" cy="10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28720" y="4154040"/>
              <a:ext cx="571320" cy="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5800" y="4154040"/>
              <a:ext cx="571320" cy="3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15480" y="4953600"/>
              <a:ext cx="571320" cy="34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8229960" y="4840560"/>
              <a:ext cx="34272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8457840" y="4840920"/>
              <a:ext cx="11412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8457840" y="4840920"/>
              <a:ext cx="11412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29400" y="5525280"/>
              <a:ext cx="799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BOB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57800" y="5525280"/>
              <a:ext cx="571320" cy="68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witc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86000" y="5525280"/>
              <a:ext cx="799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BOB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86200" y="5525280"/>
              <a:ext cx="5713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witc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29680" y="5525280"/>
              <a:ext cx="6858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D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" y="5525280"/>
              <a:ext cx="13712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tation Board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57480" y="5525280"/>
              <a:ext cx="4568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57480" y="5868360"/>
              <a:ext cx="4568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1713960" y="5639400"/>
              <a:ext cx="571320" cy="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1713960" y="5982480"/>
              <a:ext cx="571320" cy="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86120" y="4039200"/>
              <a:ext cx="799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86120" y="3125160"/>
              <a:ext cx="799920" cy="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86120" y="2210040"/>
              <a:ext cx="79992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86120" y="1295640"/>
              <a:ext cx="799920" cy="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3086280" y="5753520"/>
              <a:ext cx="799920" cy="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58080" y="2210040"/>
              <a:ext cx="914400" cy="476280"/>
            </a:xfrm>
            <a:custGeom>
              <a:avLst/>
              <a:gdLst/>
              <a:ahLst/>
              <a:rect l="l" t="t" r="r" b="b"/>
              <a:pathLst>
                <a:path w="1440" h="630">
                  <a:moveTo>
                    <a:pt x="0" y="390"/>
                  </a:moveTo>
                  <a:cubicBezTo>
                    <a:pt x="195" y="195"/>
                    <a:pt x="390" y="0"/>
                    <a:pt x="540" y="30"/>
                  </a:cubicBezTo>
                  <a:cubicBezTo>
                    <a:pt x="690" y="60"/>
                    <a:pt x="780" y="510"/>
                    <a:pt x="900" y="570"/>
                  </a:cubicBezTo>
                  <a:cubicBezTo>
                    <a:pt x="1020" y="630"/>
                    <a:pt x="1170" y="420"/>
                    <a:pt x="1260" y="390"/>
                  </a:cubicBezTo>
                  <a:cubicBezTo>
                    <a:pt x="1350" y="360"/>
                    <a:pt x="1395" y="375"/>
                    <a:pt x="1440" y="390"/>
                  </a:cubicBezTo>
                </a:path>
              </a:pathLst>
            </a:custGeom>
            <a:noFill/>
            <a:ln w="1908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4457520" y="5525280"/>
              <a:ext cx="799920" cy="475560"/>
            </a:xfrm>
            <a:custGeom>
              <a:avLst/>
              <a:gdLst/>
              <a:ahLst/>
              <a:rect l="l" t="t" r="r" b="b"/>
              <a:pathLst>
                <a:path w="1440" h="630">
                  <a:moveTo>
                    <a:pt x="0" y="390"/>
                  </a:moveTo>
                  <a:cubicBezTo>
                    <a:pt x="195" y="195"/>
                    <a:pt x="390" y="0"/>
                    <a:pt x="540" y="30"/>
                  </a:cubicBezTo>
                  <a:cubicBezTo>
                    <a:pt x="690" y="60"/>
                    <a:pt x="780" y="510"/>
                    <a:pt x="900" y="570"/>
                  </a:cubicBezTo>
                  <a:cubicBezTo>
                    <a:pt x="1020" y="630"/>
                    <a:pt x="1170" y="420"/>
                    <a:pt x="1260" y="390"/>
                  </a:cubicBezTo>
                  <a:cubicBezTo>
                    <a:pt x="1350" y="360"/>
                    <a:pt x="1395" y="375"/>
                    <a:pt x="1440" y="390"/>
                  </a:cubicBezTo>
                </a:path>
              </a:pathLst>
            </a:custGeom>
            <a:noFill/>
            <a:ln w="1908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5829480" y="5753880"/>
              <a:ext cx="799920" cy="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8115120" y="5410800"/>
              <a:ext cx="114120" cy="34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229960" y="952560"/>
              <a:ext cx="571320" cy="354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LBI Mk V b receiv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58280" y="1180800"/>
              <a:ext cx="571320" cy="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58280" y="2210040"/>
              <a:ext cx="571320" cy="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58280" y="3125160"/>
              <a:ext cx="571320" cy="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58280" y="4039200"/>
              <a:ext cx="571320" cy="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57320" y="838080"/>
              <a:ext cx="360" cy="3772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057400" y="4610520"/>
              <a:ext cx="7999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57400" y="4610520"/>
              <a:ext cx="360" cy="1715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28600" y="6325560"/>
              <a:ext cx="182880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28600" y="4610520"/>
              <a:ext cx="7999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28520" y="838080"/>
              <a:ext cx="360" cy="3772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1028160" y="838080"/>
              <a:ext cx="182844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864F-4D6C-4C9A-BEC9-46BBF5D3CD9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IBOB under tes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117440" y="1143000"/>
            <a:ext cx="690912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E517-7FB9-46D3-B7E3-BA26AC0CE49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iBOB Test Configura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600200" y="1447560"/>
            <a:ext cx="4800600" cy="4915440"/>
            <a:chOff x="1600200" y="1447560"/>
            <a:chExt cx="4800600" cy="4915440"/>
          </a:xfrm>
        </p:grpSpPr>
        <p:sp>
          <p:nvSpPr>
            <p:cNvPr id="274" name=""/>
            <p:cNvSpPr/>
            <p:nvPr/>
          </p:nvSpPr>
          <p:spPr>
            <a:xfrm>
              <a:off x="2971800" y="4076640"/>
              <a:ext cx="571320" cy="2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S2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42920" y="4076640"/>
              <a:ext cx="571320" cy="2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JT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29000" y="2247840"/>
              <a:ext cx="1485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ptional second CX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1561680"/>
              <a:ext cx="1485720" cy="22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X4 10Gbps up to 15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00200" y="1447560"/>
              <a:ext cx="18288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BO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nfigured as network testing devi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00600" y="1447560"/>
              <a:ext cx="148572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etwork P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witc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29000" y="1790640"/>
              <a:ext cx="1371240" cy="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29000" y="2476440"/>
              <a:ext cx="1371240" cy="7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00200" y="4647960"/>
              <a:ext cx="1828800" cy="171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ocal P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ownload FPGA firmware over JTA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ocal Monitoring over RS23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moved when firmware is stab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1942920" y="3619080"/>
              <a:ext cx="360" cy="10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971800" y="3619080"/>
              <a:ext cx="360" cy="10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86400" y="4076640"/>
              <a:ext cx="7999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/100 Eth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486400" y="3618720"/>
              <a:ext cx="360" cy="137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72000" y="4991040"/>
              <a:ext cx="1828800" cy="12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mote P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mote login to network PC to run tests from JBO, Manchester or elsewhe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33E3-B87D-4DB8-AC03-BCCB55EB63F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ontents: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1.2.1 Broadband Protoc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1.2.2 Broadband data processing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D6E2-09DC-47C0-8A77-9C1AF171E98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iBOB test set up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117440" y="1143000"/>
            <a:ext cx="690912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318-8282-40CE-98A1-D4C1910DB43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imulink Design for Generating Bursts of UDP Packets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982800" y="1143000"/>
            <a:ext cx="717840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A9D5-401E-4317-B160-BD6EA8DCAEF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77920" y="-36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UDP Throughput vs. Packet Spacing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224160" y="1886040"/>
            <a:ext cx="5738760" cy="2889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9240" y="911160"/>
            <a:ext cx="34974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Kernel </a:t>
            </a: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2.6.20-web100_pktd-p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Myricom 10G-PCIE-8A-R CX4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x-usecs=25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Coalescence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TU 9000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UDP 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ax throughput </a:t>
            </a:r>
            <a:r>
              <a:rPr b="1" lang="en-GB" sz="1400" spc="-1" strike="noStrike">
                <a:solidFill>
                  <a:srgbClr val="cc0000"/>
                </a:solidFill>
                <a:latin typeface="Times New Roman"/>
              </a:rPr>
              <a:t>9.4 G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iBo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cket 8234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a: 8192+ Header: 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00 MHz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ax rate 6.6 G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ee</a:t>
            </a:r>
            <a:r>
              <a:rPr b="1" lang="en-GB" sz="1400" spc="-1" strike="noStrike">
                <a:solidFill>
                  <a:srgbClr val="cc0000"/>
                </a:solidFill>
                <a:latin typeface="Times New Roman"/>
              </a:rPr>
              <a:t> 6.44G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0E1A-50AE-41A8-9EB1-CBD99D9E99E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Network PC to test 10Gbps capability of iB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RP, PING and send and receive UDP packets using software running on the iBOB’s PowerP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Gbps packets sent using FPGA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ext few wee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network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VSI-E control protocols using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ext 6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OB to iBOB transmission over a network using a modified RTP packet header. Algorithms to buffer and re-order late packets in the receiver need to be developed and tes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algorithms on a Xilinx development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move the e-Merlin delay mode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the n x 10kHz offs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a 128MHz band into VLBI compatible sub-b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 on the Virtex 4 SX35 chips on the station 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5E07-4FD5-4D4B-BD26-CD2B4D7EFAF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066680" y="228600"/>
            <a:ext cx="2210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estions?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4723920"/>
            <a:ext cx="79250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371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ty Midnight Maroon Nov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ct information:    ralph.spencer@manchester.ac.u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4647960" cy="348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55E9-2E43-483B-BC6A-20DE5833C3D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P1.2.1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vestigation of suitable protocols for real time e-VLBI in EVN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 FTE funded from EXPReS, RA: Stephen Kersh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ibuted work over last year funded by ESLEA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ategic document May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tocols performance report (interim) June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P1.2.2 Broadband Data Processo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face to e-MERLIN corre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 Gbps input (from Onsa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 x 1 Gbps output to JIVE (SA1, EXP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FTE (EXPReS+FABRIC), Johnathan Hargreaves (since Dec 2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ing iBOBs: Xilinx vertex 2 FP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-MERLIN station boards: Xilinx IV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80C-E890-4829-AC6C-144CA07996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WP1.2.1 Protocols: What’s in the report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CP_delay – constant bit rate data transfer over 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840" indent="-229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ction to lost packets – data delay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840" indent="-229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n catch up, needs large data buffers and provided link bandwidth adequ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840" indent="-229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practical, needs alternative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LBI_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840" indent="-229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DP based transfer system using ring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840" indent="-229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ows selective packet dro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840" indent="-229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plementation on PCs works, tests with corre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840" indent="-229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plemented on MkVAs – code diversion (JIVE/JB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840" indent="-229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oth work at 512 Mbp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840" indent="-229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 Gbps tests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C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840" indent="-229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atagram congestion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Linux kernel, uses selectable congestion control algorithm (CC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eds suitable CCID for e-VL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rther work needed if to be sued in eVL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950A-A305-4E72-B075-B0788DF90C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WP1.2.1 Protocols: What’s now/next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 on TCP-delay completed -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tep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LBI_UDP ideas incorporated into Haro’s/Arpad’s code – 512 Mbps successful on Mk5A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ttleneck on VLBI_UDP identified: selective packet dropping implemented (can run 1024 Mbps VLBI over 1 GE) -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i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 on multi-destination protocols initiated  -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teph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SI-E implemented, trans-Atlantic tests underway -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 Gbps tests undertaken on GEANT2 research network -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s to Onsala being 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866-6E07-4F55-B175-48C29F5EB1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1680" y="342720"/>
            <a:ext cx="761508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4 Gbit flows over </a:t>
            </a:r>
            <a:r>
              <a:rPr b="1" lang="en-GB" sz="3600" spc="-1" strike="noStrike">
                <a:solidFill>
                  <a:srgbClr val="80008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  <a:ea typeface="Arial"/>
              </a:rPr>
              <a:t>É</a:t>
            </a:r>
            <a:r>
              <a:rPr b="1" lang="en-GB" sz="3600" spc="-1" strike="noStrike">
                <a:solidFill>
                  <a:srgbClr val="800080"/>
                </a:solidFill>
                <a:latin typeface="Times New Roman"/>
              </a:rPr>
              <a:t>ANT2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4200" y="982440"/>
            <a:ext cx="874728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up 4 Gigabit Lightpath Between 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2 P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aboration with 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T2 Testbed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London – Prague – Lond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London-Amsterdam-Frankfurt-Prague-Paris-Lo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s in the DANTE London PoP with 10 Gigabit NIC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BI Tes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DP Perform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put, jitter, packet loss, 1-way delay, 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ous (days) Data Flows – VLBI_UDP and udpm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Gigabit TCP performance with current ker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Gigabit CBR over TCP/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ience for FPGA Ethernet packe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NTE Interes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Gigabit TCP perform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ffect of (Alcatel 1678 MCC 10GE port) buffer size on bursty TCP using BW limited Light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Gigabit London –New York Alcatel-Ciena Interopera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1A54-A657-49D6-847F-FBF0BBB4E7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8840" y="378000"/>
            <a:ext cx="8496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Times New Roman"/>
              </a:rPr>
              <a:t>The G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Arial"/>
              </a:rPr>
              <a:t>É</a:t>
            </a:r>
            <a:r>
              <a:rPr b="1" lang="en-GB" sz="3200" spc="-1" strike="noStrike">
                <a:solidFill>
                  <a:srgbClr val="800080"/>
                </a:solidFill>
                <a:latin typeface="Times New Roman"/>
              </a:rPr>
              <a:t>ANT2 Test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76560" y="1074600"/>
            <a:ext cx="5862600" cy="4065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84320" y="2446200"/>
            <a:ext cx="4109760" cy="38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10 Gigabit SDH backb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lcatel 1678 MC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E and 10GE client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ode location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mster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a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rankf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n do lightpath routing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o make paths of different RT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ocate the PCs in Lond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936C-826C-480F-893D-8523AF724DA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1720" y="2894040"/>
            <a:ext cx="3622680" cy="3205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8840" y="378000"/>
            <a:ext cx="8496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Times New Roman"/>
              </a:rPr>
              <a:t>Provisioning the lightpath on ALCATEL M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7360" y="1617840"/>
            <a:ext cx="374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ome jiggery-pokery needed with the NMS to force a “looped back” lightpath London-Prague-Lond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Manual XCs (using element manager) possible but hard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196 needed + other operations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stead used RM to create two parallel VC-4-28v (single-ended) Ethernet private line (EPL) pa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strained to transit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hen manually joined paths in 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nly 28 manually created XCs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25800" y="1073160"/>
            <a:ext cx="3780000" cy="371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41AC-9CC6-453E-A6B7-19BF139F5AB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8840" y="378000"/>
            <a:ext cx="8496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Times New Roman"/>
              </a:rPr>
              <a:t>Provisioning the lightpath on ALCATEL MC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480" y="1617840"/>
            <a:ext cx="41097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aths come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Transient) alarms cl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sult: provisioned a path of 28 virtually concatenated VC-4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UK-NL-DE-NL-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ptical path ~4150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ith dispersion compensation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~4900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TT 46.7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33720" y="1227240"/>
            <a:ext cx="4907160" cy="386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c: WP1.2 Broadband data pat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FC31-9496-4596-AEBD-6971ABC02975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September 2007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Hughes-Jones</cp:lastModifiedBy>
  <dcterms:modified xsi:type="dcterms:W3CDTF">2007-09-20T08:24:08Z</dcterms:modified>
  <cp:revision>32</cp:revision>
  <dc:subject/>
  <dc:title>Slide 1</dc:title>
</cp:coreProperties>
</file>